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3520" y="3903480"/>
            <a:ext cx="77724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16200" y="133956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0348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516200" y="390348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25023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61520" y="1339560"/>
            <a:ext cx="25023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789160" y="1339560"/>
            <a:ext cx="25023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3520" y="3903480"/>
            <a:ext cx="25023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61520" y="3903480"/>
            <a:ext cx="25023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789160" y="3903480"/>
            <a:ext cx="250236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37926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516200" y="1339560"/>
            <a:ext cx="37926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40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16200" y="1339560"/>
            <a:ext cx="37926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33520" y="390348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37926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16200" y="133956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16200" y="390348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16200" y="1339560"/>
            <a:ext cx="37926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520" y="3903480"/>
            <a:ext cx="7772400" cy="234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eal-Time Protocol (RTP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63480" y="103320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ides standard packet format for real-time appl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ically runs over UD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cifies header fields bel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yload Typ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7 bits, providing 128 possible different types of encoding; eg PCM, MPEG2 video, et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quence Numb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16 bits; used to detect packet lo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" name="643%20rtpPacket" descr=""/>
          <p:cNvPicPr/>
          <p:nvPr/>
        </p:nvPicPr>
        <p:blipFill>
          <a:blip r:embed="rId1"/>
          <a:stretch/>
        </p:blipFill>
        <p:spPr>
          <a:xfrm>
            <a:off x="1273320" y="4917960"/>
            <a:ext cx="670536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Summary 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65" name="656%20Four%20Pillars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391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Scheduling And Policing Mechanism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18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heduling: choosing the next packet for transmission on a link can be done following a number of policies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7480" indent="-2674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O: in order of arrival to the queue; packets that arrive to a full buffer are either discarded, or a discard policy is used to determine which packet to discard among the arrival and those already queu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" name="661%20FIFO" descr=""/>
          <p:cNvPicPr/>
          <p:nvPr/>
        </p:nvPicPr>
        <p:blipFill>
          <a:blip r:embed="rId1"/>
          <a:stretch/>
        </p:blipFill>
        <p:spPr>
          <a:xfrm>
            <a:off x="1652760" y="4626000"/>
            <a:ext cx="55591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Scheduling Polici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2640" y="1068120"/>
            <a:ext cx="7772400" cy="21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iority Queuing: classes have different priorities; class may depend on explicit marking or other header info, eg IP source or destination, TCP Port numbers, et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mit a packet from the highest priority class with a non-empty que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emptive and non-preemptive ver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" name="663%20%202-Priority%20Queue" descr=""/>
          <p:cNvPicPr/>
          <p:nvPr/>
        </p:nvPicPr>
        <p:blipFill>
          <a:blip r:embed="rId1"/>
          <a:stretch/>
        </p:blipFill>
        <p:spPr>
          <a:xfrm>
            <a:off x="155520" y="4457880"/>
            <a:ext cx="3819600" cy="2209680"/>
          </a:xfrm>
          <a:prstGeom prst="rect">
            <a:avLst/>
          </a:prstGeom>
          <a:ln w="0">
            <a:noFill/>
          </a:ln>
        </p:spPr>
      </p:pic>
      <p:pic>
        <p:nvPicPr>
          <p:cNvPr id="72" name="Service%20order%20in%20non%20preemptive%202%20priority%20queue" descr=""/>
          <p:cNvPicPr/>
          <p:nvPr/>
        </p:nvPicPr>
        <p:blipFill>
          <a:blip r:embed="rId2"/>
          <a:stretch/>
        </p:blipFill>
        <p:spPr>
          <a:xfrm>
            <a:off x="4897440" y="3990960"/>
            <a:ext cx="39276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Scheduling Policies (more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nd Robin: scan class queues serving one from each class that has a non-empty que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5" name="665%20round_robin" descr=""/>
          <p:cNvPicPr/>
          <p:nvPr/>
        </p:nvPicPr>
        <p:blipFill>
          <a:blip r:embed="rId1"/>
          <a:stretch/>
        </p:blipFill>
        <p:spPr>
          <a:xfrm>
            <a:off x="355680" y="2919240"/>
            <a:ext cx="845496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Scheduling Policies (more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eighted Fair Queuing: is a generalized Round Robin in which an attempt is made to provide a class with a differentiated amount of service over a given period of 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8" name="666%20WFQ" descr=""/>
          <p:cNvPicPr/>
          <p:nvPr/>
        </p:nvPicPr>
        <p:blipFill>
          <a:blip r:embed="rId1"/>
          <a:stretch/>
        </p:blipFill>
        <p:spPr>
          <a:xfrm>
            <a:off x="638280" y="3314880"/>
            <a:ext cx="80071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olicing Mechanism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27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ree criteri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Long term)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verage Ra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100 packets per sec or 6000 packets per min??), crucial aspect is the interval leng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eak Rat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e.g., 6000 p p minute Avg and 1500 p p sec Pea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Max.)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Burst Siz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Max. number of packets sent consecutively, ie over a short period of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olicing Mechanism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ken Bucket mechanism, provides a means for limiting input to specified Burst Size and Average Rat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3" name="667%20Token%20bucket" descr=""/>
          <p:cNvPicPr/>
          <p:nvPr/>
        </p:nvPicPr>
        <p:blipFill>
          <a:blip r:embed="rId1"/>
          <a:stretch/>
        </p:blipFill>
        <p:spPr>
          <a:xfrm>
            <a:off x="1265400" y="3290760"/>
            <a:ext cx="60958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olicing Mechanisms (more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20640" y="10443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cket can hold b tokens; token are generated at a rate of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r token/se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nless bucket is full of toke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85040" indent="-185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ver an interval of length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he number of packets that are admitted is less than or equal to  (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r t + b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85040" indent="-185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ken bucket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FQ can b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bined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vide upp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und on dela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" name="668%20WFQ_and_token" descr=""/>
          <p:cNvPicPr/>
          <p:nvPr/>
        </p:nvPicPr>
        <p:blipFill>
          <a:blip r:embed="rId1"/>
          <a:stretch/>
        </p:blipFill>
        <p:spPr>
          <a:xfrm>
            <a:off x="3724200" y="3178080"/>
            <a:ext cx="5257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grated Servic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18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architecture for providing QOS guarantees in IP networks for individual application sess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85040" indent="-1850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ies on resource reservation, and routers need to maintain state info (Virtual Circuit??), maintaining records of allocated resources and respond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new Cal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tu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ques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 tha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671%20Call%20Setup%20In%20Intserv" descr=""/>
          <p:cNvPicPr/>
          <p:nvPr/>
        </p:nvPicPr>
        <p:blipFill>
          <a:blip r:embed="rId1"/>
          <a:stretch/>
        </p:blipFill>
        <p:spPr>
          <a:xfrm>
            <a:off x="2911320" y="3386160"/>
            <a:ext cx="571500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all Admission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33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ssion must first declare its QOS requirement and characterize the traffic it will send through the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-spe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defines the QOS being reques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-spec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defines the traffic characterist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ignaling protocol is needed to carry the R-spec and T-spec to the routers where reservation is required; RSVP is a leading candidate for such signaling protoc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eal-Time Protocol (RTP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imestam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32 bytes; gives the sampling instant of the first audio/video byte in the packet;  used to remove jitter introduced by the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ynchronization Source identifier (SSRC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32 bits; an id for the source of a stream; assigned randomly by the sour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" name="643%20rtpPacket" descr=""/>
          <p:cNvPicPr/>
          <p:nvPr/>
        </p:nvPicPr>
        <p:blipFill>
          <a:blip r:embed="rId1"/>
          <a:stretch/>
        </p:blipFill>
        <p:spPr>
          <a:xfrm>
            <a:off x="1273320" y="4917960"/>
            <a:ext cx="670536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all Admission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l Admission: routers will admit calls based on their R-spec and T-spec and base on the current resource allocated at the routers to other call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4" name="672%20Call%20Admission%20In%20Intserv" descr=""/>
          <p:cNvPicPr/>
          <p:nvPr/>
        </p:nvPicPr>
        <p:blipFill>
          <a:blip r:embed="rId1"/>
          <a:stretch/>
        </p:blipFill>
        <p:spPr>
          <a:xfrm>
            <a:off x="824040" y="2892600"/>
            <a:ext cx="7673760" cy="31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Integrated Services: Class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uaranteed QO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his class is provided wi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irm bound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n queuing delay at a router; envisioned for hard real-time applications that are highly sensitive to end-to-end delay expectation and vari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trolled Loa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this class is provided a QO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losely approximat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hat provided by an unloaded router; envisioned for today’s IP network real-time applications which perform well in an unloaded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Differentiated Servic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nded to address the following difficulties with Intserv and RSVP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alability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maintaining states by routers in high speed networks is difficult sue to the very large number of flow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lexible Service Model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Intserv has only two classes, want to provide more qualitative service classes; want to provide ‘relative’ service distinction (Platinum, Gold, Silver, …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mpler signal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(than RSVP) many applications and users may only w ant to specify a more qualitative notion of serv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Differentiated Servic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pproach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nly simple functions in the core, and relatively complex functions at edge routers (or host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 not define service classes, instead provides functional components with which service classes can be buil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Edge Function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 DS-capable host or first DS-capable ro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ficatio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edge node marks packets according to classification rules to be specified (manually by admin, or by some TBD protoco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affic  Condition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edge node may delay and then forward or may discar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691%20diffserv1" descr=""/>
          <p:cNvPicPr/>
          <p:nvPr/>
        </p:nvPicPr>
        <p:blipFill>
          <a:blip r:embed="rId1"/>
          <a:stretch/>
        </p:blipFill>
        <p:spPr>
          <a:xfrm>
            <a:off x="2109960" y="3811680"/>
            <a:ext cx="5022720" cy="27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ore Function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rward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according to “Per-Hop-Behavior” or PHB specified for the particular packet class; such PHB is strictly based on class marking (no other header fields can be used to influence PHB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IG ADVANTAG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state info to be maintained by router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lassification and Conditioning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27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cket is marked in the Type of Service (TOS) in IPv4, and Traffic Class in IPv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6 bits used for Differentiated Service Code Point (DSCP) and determine PHB that the packet will rece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bits are currently un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879560" y="4395960"/>
          <a:ext cx="5014800" cy="101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79560" y="4395960"/>
                    <a:ext cx="5014800" cy="10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Classification and Conditioning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may be desirable to limit traffic injection rate of some class; user declares traffic profile (eg, rate and burst size); traffic is metered and shaped if non-conformin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2" name="694%20diffserv%20metering%20classify%20mark%20shape" descr=""/>
          <p:cNvPicPr/>
          <p:nvPr/>
        </p:nvPicPr>
        <p:blipFill>
          <a:blip r:embed="rId1"/>
          <a:stretch/>
        </p:blipFill>
        <p:spPr>
          <a:xfrm>
            <a:off x="1495440" y="3182760"/>
            <a:ext cx="5410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Forwarding (PHB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B result in a different observable (measurable) forwarding performance behavi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B does not specify what mechanisms to use to ensure required PHB performance behavi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A gets x% of outgoing link bandwidth over time intervals of a specified length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 A packets leave first before packets from class 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Forwarding (PHB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HBs under consideratio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Expedited Forward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departure rate of packets from a class equals or exceeds a specified rate (logical link with a minimum guaranteed rat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ssured Forward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4 classes, each guaranteed a  minimum amount of bandwidth and buffering; each with three drop preference parti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TP Control Protocol (RTCP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ocol specifies report packets exchanged between sources and destinations of multimedia inform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26080" indent="-226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ree reports are defined: Receiver reception, Sender, and Source descrip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26080" indent="-226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orts contain statistics such as the number of packets sent, number of packet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t, inter-arrival jit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26080" indent="-226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modify send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nsmission rates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diagnostics purpo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" name="646%20RTCP%20and%20RTP" descr=""/>
          <p:cNvPicPr/>
          <p:nvPr/>
        </p:nvPicPr>
        <p:blipFill>
          <a:blip r:embed="rId1"/>
          <a:stretch/>
        </p:blipFill>
        <p:spPr>
          <a:xfrm>
            <a:off x="4916520" y="4145040"/>
            <a:ext cx="37339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Differentiated Services Issu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F and EF are not even in a standard track yet… research ongo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irtual Leased lines” and “Olympic” services are being discussed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act of crossing multiple ASs and routers that are not DS-cap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RTCP Bandwidth Scaling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each receiver sends RTCP packets to all other receivers, the traffic load resulting can be lar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TCP adjusts the interval between reports based on the number of participating receiv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ypically, limit the RTCP bandwidth to 5% of the session bandwidth, divided between the sender reports (25%) and the receivers reports (75%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Improving QOS in IP Network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55480" y="1135080"/>
            <a:ext cx="7772400" cy="21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-2228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ETF groups are working on proposals to provide better QOS control in IP networks, i.e., going beyond best effort to provide some assurance for Q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22840" indent="-2228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 in Progress includes RSVP, Differentiated Services, and Integrated Servi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22840" indent="-22284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ple mode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sharing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gestio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tudi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651%20Sharing%20and%20congestion%20model" descr=""/>
          <p:cNvPicPr/>
          <p:nvPr/>
        </p:nvPicPr>
        <p:blipFill>
          <a:blip r:embed="rId1"/>
          <a:stretch/>
        </p:blipFill>
        <p:spPr>
          <a:xfrm>
            <a:off x="3389400" y="3871800"/>
            <a:ext cx="53337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rinciples for QOS Guarantees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der a phone application at 1Mbps and an FTP application sharing a 1.5 Mbps link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19840" indent="-1998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ursts of FTP can congest the router and cause audio packets to be dropped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519840" indent="-19980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ant to give priority to audio over FT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40120" indent="-24012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PRINCIPLE 1: Marking of packets is needed for router to distinguish between different classes; and new router policy to treat packets according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" name="652%20Audio%20and%20FTP%20Apps" descr=""/>
          <p:cNvPicPr/>
          <p:nvPr/>
        </p:nvPicPr>
        <p:blipFill>
          <a:blip r:embed="rId1"/>
          <a:stretch/>
        </p:blipFill>
        <p:spPr>
          <a:xfrm>
            <a:off x="3308400" y="4356000"/>
            <a:ext cx="5327640" cy="21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rinciples for QOS Guarantees (more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339920"/>
            <a:ext cx="7772400" cy="18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ications misbehave (audio sends packets at a rate higher than 1Mbps assumed above);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PRINCIPLE 2: provide protection (isolation) for one class from other classes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quire Policing Mechanisms to ensure sources adhere to bandwidth requirements; Marking and Policing need to be done at the edg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" name="653%20Policing%20and%20Marking%20at%20Edges" descr=""/>
          <p:cNvPicPr/>
          <p:nvPr/>
        </p:nvPicPr>
        <p:blipFill>
          <a:blip r:embed="rId1"/>
          <a:stretch/>
        </p:blipFill>
        <p:spPr>
          <a:xfrm>
            <a:off x="3078000" y="4084560"/>
            <a:ext cx="5585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rinciples for QOS Guarantees (more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3399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ternative to Marking and Policing: allocate a set portion of bandwidth to each application flow; can lead to inefficient use of bandwidth if one of the flows does not use its allo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PRINCIPLE 3: While providing isolation, it is desirable to use resources as efficiently as possi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0" name="654%20Logical%20Isolation%20Through%20Bandwidth%20Allocation" descr=""/>
          <p:cNvPicPr/>
          <p:nvPr/>
        </p:nvPicPr>
        <p:blipFill>
          <a:blip r:embed="rId1"/>
          <a:stretch/>
        </p:blipFill>
        <p:spPr>
          <a:xfrm>
            <a:off x="2604960" y="4013280"/>
            <a:ext cx="556920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rinciples for QOS Guarantees (more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772400" cy="12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not support traffic beyond link capac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63880" indent="-2638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RINCIPLE 4: Need a Call Admission Process; application flow declares its needs, network may block call if it cannot satisfy the need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655%20Overloaded%20Link" descr=""/>
          <p:cNvPicPr/>
          <p:nvPr/>
        </p:nvPicPr>
        <p:blipFill>
          <a:blip r:embed="rId1"/>
          <a:stretch/>
        </p:blipFill>
        <p:spPr>
          <a:xfrm>
            <a:off x="2790720" y="3718080"/>
            <a:ext cx="502308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Don Towsley</dc:creator>
  <dc:description/>
  <dc:language>en-US</dc:language>
  <cp:lastModifiedBy>ross</cp:lastModifiedBy>
  <dcterms:modified xsi:type="dcterms:W3CDTF">2000-06-14T09:17:08Z</dcterms:modified>
  <cp:revision>123</cp:revision>
  <dc:subject/>
  <dc:title>Part I: Introduction</dc:title>
</cp:coreProperties>
</file>