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1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8916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1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8916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media Applicat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media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one over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vering from Jitter and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T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-serv, Int-serv, RSV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621%20throughBrowser" descr=""/>
          <p:cNvPicPr/>
          <p:nvPr/>
        </p:nvPicPr>
        <p:blipFill>
          <a:blip r:embed="rId1"/>
          <a:stretch/>
        </p:blipFill>
        <p:spPr>
          <a:xfrm>
            <a:off x="4002120" y="3927600"/>
            <a:ext cx="5487840" cy="2697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treaming From Web Server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dio: in files sent as HTTP obje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deo (interleaved audio and images in one file, or two separate files and client synchronizes the display) sent as HTTP object(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mple architecture is to have the Browser requests the object(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after thei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eption pas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m to the play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disp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01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No pipelin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treaming From Web Server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339920"/>
            <a:ext cx="77724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: set up connection between server and player, then downlo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b browser requests and receives a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Meta Fi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 file describing the object) instead of receiving the file itself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rowser launches the appropriate Player and passes it the Meta File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yer sets up a TCP connection with Web Server and downloads the f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eta file request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2" name="622%20naive%20streaming" descr=""/>
          <p:cNvPicPr/>
          <p:nvPr/>
        </p:nvPicPr>
        <p:blipFill>
          <a:blip r:embed="rId1"/>
          <a:stretch/>
        </p:blipFill>
        <p:spPr>
          <a:xfrm>
            <a:off x="1496880" y="2567160"/>
            <a:ext cx="643104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Using a Streaming Serv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s gets us around HTTP, allows a choice of UDP vs. TCP and the application layer protocol can be better tailored to Streaming; many enhancements options are possible (see next slid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" name="623%20streamServer" descr=""/>
          <p:cNvPicPr/>
          <p:nvPr/>
        </p:nvPicPr>
        <p:blipFill>
          <a:blip r:embed="rId1"/>
          <a:stretch/>
        </p:blipFill>
        <p:spPr>
          <a:xfrm>
            <a:off x="1501920" y="3122640"/>
            <a:ext cx="651348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Options When Using a Streaming Server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339920"/>
            <a:ext cx="7772400" cy="20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UDP, and Server sends at a rate (Compression and Transmission) appropriate for client; to reduce jitter, Player buffers initially for  2-5 seconds, then starts disp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CP, and sender sends at maximum possible rate under TCP; retransmit when error is encountered; Player uses a much large buffer to smooth delivery rate of TC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624%20prefetch%20and%20drain" descr=""/>
          <p:cNvPicPr/>
          <p:nvPr/>
        </p:nvPicPr>
        <p:blipFill>
          <a:blip r:embed="rId1"/>
          <a:stretch/>
        </p:blipFill>
        <p:spPr>
          <a:xfrm>
            <a:off x="746280" y="3732120"/>
            <a:ext cx="76309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 Time Streaming Protocol (RTS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7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user to control display: rewind, fast forward, pause, resume, etc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ut-of-band protocol (uses two connections, one for control messages (Port 554) and for media strea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FC 2326 permits use of either TCP or UDP for the control messages connection, sometimes called the RTSP Chann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3800" indent="-25380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before, meta file is communicated to web browser which then launches the Player; Player sets up an RTSP connection for control messages in addition to the connection for the streaming 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eta File Examp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83840" y="1316160"/>
            <a:ext cx="8659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title&gt;Twister&lt;/title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lt;session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group language=en lipsync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lt;switch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track type=audi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="PCMU/8000/1"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 = "rtsp://audio.example.com/twister/audio.en/lofi"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track type=audi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="DVI4/16000/2" pt="90 DVI4/8000/1"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="rtsp://audio.example.com/twister/audio.en/hifi"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lt;/switch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track type="video/jpeg"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rc="rtsp://video.example.com/twister/video"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&lt;/group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&lt;/session&gt;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TSP Operat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74" name="625%20RTSP" descr=""/>
          <p:cNvPicPr/>
          <p:nvPr/>
        </p:nvPicPr>
        <p:blipFill>
          <a:blip r:embed="rId1"/>
          <a:stretch/>
        </p:blipFill>
        <p:spPr>
          <a:xfrm>
            <a:off x="1827360" y="1611360"/>
            <a:ext cx="548784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TSP Exchange Exampl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6000" y="945720"/>
            <a:ext cx="85834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: SETUP rtsp://audio.example.com/twister/audio RTSP/1.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ransport: rtp/udp; compression; port=3056; mode=PLAY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: RTSP/1.0 200 1 OK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 423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: PLAY rtsp://audio.example.com/twister/audio.en/lofi RTSP/1.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: 423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nge: npt=0-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: PAUSE rtsp://audio.example.com/twister/audio.en/lofi RTSP/1.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: 423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nge: npt=37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: TEARDOWN rtsp://audio.example.com/twister/audio.en/lofi RTSP/1.0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ssion: 4231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: 200 3 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1836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-Time (Phone) Over IP’s Best-Effor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net phone applications generate packets during talk spur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t rate is 8 KBytes, and every 20 msec, the sender forms a packet of 160 Bytes + a header to be discussed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oded voice information is encapsulated into a UDP packet and sent out; some packets may be lost; up to 20 % loss is tolerable; using TCP eliminates loss but at a considerable cost: variance in delay; FEC is sometimes used to fix errors and make up lo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pplication Classes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8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 sensitive to delay, but can tolerate packet loss (would cause minor glitches that can be conceal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 contains audio and video content (“continuous media”), three classes of applica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Unidirectional Real-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nteractive Real-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792468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-Time (Phone) Over IP’s Best-Effor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d-to-end delays above 400 msec cannot be tolerated; packets that are that delayed are ignored at the receiv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ay jitter is handled by using timestamps, sequence numbers, and delaying playout at receivers either a fixed or a variable amou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fixed playout delay, the delay should be as small as possible without missing too many packets; delay cannot exceed 400 mse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net Phone with Fixed Playout Delay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82" name="631%20fixedDelay" descr=""/>
          <p:cNvPicPr/>
          <p:nvPr/>
        </p:nvPicPr>
        <p:blipFill>
          <a:blip r:embed="rId1"/>
          <a:stretch/>
        </p:blipFill>
        <p:spPr>
          <a:xfrm>
            <a:off x="1370160" y="1401840"/>
            <a:ext cx="640224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daptive Playout Delay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jective is to use a value for p-r that tracks the network delay performance as it varies during a phone ca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playout delay is computed for each talk spurt based on observed average delay and observed deviation from this average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ed average delay and deviation of average delay are computed in a manner similar to estimates of RTT and deviation in T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beginning of a talk spurt is identified from examining the timestamps in successive and/or sequence numbers of chu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covery From Packet Los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s is in a broader sense: packet never arrives or arrives later than its scheduled playout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ce retransmission is inappropriate for Real Time applications,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r Interleaving are used to reduce loss impa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EC is Forward Error Corr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st FEC scheme adds a redundant chunk made up of exclusive OR of a group of n chunks; redundancy is 1/n; can reconstruct if at most one lost chunk; playout time schedule assumes a loss per gro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covery From Packet Los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ixed quality streams are used to include redundant duplicates of chunks; upon loss playout available redundant chunk, albeit a lower quality 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h one redundant chunk per chunk can recover from single los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iggybacking Lower Quality Strea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90" name="632%20Mixed%20Quality%20Redundancy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rleav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33992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s no redundancy, but can cause delay in playout beyond Real Time require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vide 20 msec of audio data into smaller units of 5 msec each and interle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on loss, have a set of partially filled chun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3" name="633%20interleaving" descr=""/>
          <p:cNvPicPr/>
          <p:nvPr/>
        </p:nvPicPr>
        <p:blipFill>
          <a:blip r:embed="rId1"/>
          <a:stretch/>
        </p:blipFill>
        <p:spPr>
          <a:xfrm>
            <a:off x="1881360" y="3543480"/>
            <a:ext cx="601956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pplication Class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Strea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ients request audio/video files from servers and pipeline reception over the network and displa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active: user can control operation (similar to VCR: pause, resume, fast forward, rewind, etc.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ay: from client request until display start can be 1 to 10 second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pplication Class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Unidirectional Real-Tim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milar to existing TV and radio stations, but delivery on the net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-interactive, just listen/view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nteractive Real-Time 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hone conversation or video con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stringent delay requirement than Streaming and Unidirectional because of real-time natu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ideo: &lt; 150 msec accep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udio: &lt; 150 msec good,  &lt;400 msec accep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alleng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39920"/>
            <a:ext cx="7772400" cy="47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CP/UDP/IP suite provides best-effort, no guarantees on expectation or variance of packet del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reaming applications delay of 5 to 10 seconds is typical and has been acceptable, but performance deteriorate if links are congested (transoceani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-Time Interactive requirements on delay and its jitter have been satisfied by over-provisioning (providing plenty of bandwidth), what will happen when the load increases?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halleng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router implementations use only First-Come-First-Serve (FCFS) packet processing and transmission schedu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mitigate impact of  “best-effort” protocols, we can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UDP to avoid TCP and its slow-start phase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ffer content at client and control playback to remedy jit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apt compression level to available bandwid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olution Approaches in IP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ust add more bandwidth and enhance caching capabilities (over-provisioning)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major change of the protocols 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corporate resource reservation (bandwidth, processing, buffering), and new scheduling policie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t up service level agreements with applications, monitor and enforce the agreements, charge according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ed moderate changes (“Differentiated Services”)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two traffic classes for all packets and differentiate service accordingl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arge based on class of packe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twork capacity is provided to ensure first class packets incur no significant delay at rout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tream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ortant and growing application due to reduction of storage costs, increase in high speed net access from homes, enhancements to caching and introduction of QoS in IP net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dio/Video file is segmented and sent over either TCP or UDP, public segmentation protocol: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l-Time Protocol (RT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tream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r interactive control is provided, e.g. the public protocol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eal Time Streaming Protocol (RTS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lper Applicat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plays content, which is typically requested via a Web browser; e.g. RealPlayer; typical func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compress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itter remov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rror correction: use redundant packets to be used for reconstruction of original strea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I for user contro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ross</cp:lastModifiedBy>
  <dcterms:modified xsi:type="dcterms:W3CDTF">2000-06-14T09:11:45Z</dcterms:modified>
  <cp:revision>125</cp:revision>
  <dc:subject/>
  <dc:title>Part I: Introduction</dc:title>
</cp:coreProperties>
</file>