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797B-1BF8-496C-BB11-9DC7B46B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2EC-65B7-468D-9B65-3A6F77BD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9C5-4DD9-462A-95AB-64140C5F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0B0F-4CEE-440F-A22E-31C492B4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BFDC-5A77-4AB5-97FE-7B78DB77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AC28-A9CC-4040-BD03-BCF40863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DC3B-AAD9-4202-BE9F-B7D51BFF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985F-A85E-4FDA-ADFB-88A41040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45B4-D2FF-44A1-B62C-1291A5BA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BA73-514F-4B52-833A-B781D574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29E5-12D2-44A9-83CD-00565F2E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E73F-4927-41AF-9603-BF63372A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2A40-B822-4EF6-B1EF-7B3BF799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60D9-2F67-4C22-826D-EE4BB1F9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A877-FEA2-4C98-827F-24F39912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C6B3-C71D-4503-84CB-5D0D2BE9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C5C4-C5CD-4919-876A-F7BC0DBF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5327-4678-4E5D-9090-5167B7B9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D75-7342-4DE0-AE5B-8E90A7D2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D3C-D332-48C6-B93F-4CDBBADD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4F64-6FA0-4502-B3B7-73CD17C2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F5A9-7E58-42D0-A790-6803617C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1B08-4D68-4F46-8D32-69D669D2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0F1-9E9D-4B98-BA8D-7C86D0F9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7D08-15F3-4DBF-B90A-20B69D1519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A5C3-221C-48B9-B495-2B23323B16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11280" y="333360"/>
            <a:ext cx="8208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86d1ec"/>
                </a:solidFill>
                <a:latin typeface="Arial"/>
              </a:rPr>
              <a:t>ΔΙΑΤΡΟΦΙΚΕΣ  ΔΙΑΤΑΡΑΧΕΣ :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86d1ec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86d1ec"/>
                </a:solidFill>
                <a:latin typeface="Arial"/>
              </a:rPr>
              <a:t>ΨΥΧΟΓΕΝΗΣ ΑΝΟΡΕΞΙ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86d1ec"/>
                </a:solidFill>
                <a:latin typeface="Arial"/>
              </a:rPr>
              <a:t>ΨΥΧΟΓΕΝΗΣ ΒΟΥΛΙΜΙ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Άρτεμις Τσίτσικα-Παπαγεωργίου, </a:t>
            </a:r>
            <a:br>
              <a:rPr sz="2400"/>
            </a:b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Παιδίατρος, Διδάκτωρ του Πανεπιστημίου Αθηνώ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Επιστημονική  Συνεργάτις  Α΄ Παιδιατρικής Κλινικής Παν/μίου Αθηνών - Νοσοκομείο Παίδων «Η Αγία Σοφία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ΣΗΜΑΣΙΑ  ΔΙΑΤΡΟΦΙΚΩΝ  ΔΙΑΤΑΡΑΧΩ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Σημαντική </a:t>
            </a:r>
            <a:r>
              <a:rPr b="1" i="1" lang="el-GR" sz="2800" spc="-1" strike="noStrike">
                <a:solidFill>
                  <a:srgbClr val="ffffff"/>
                </a:solidFill>
                <a:latin typeface="Arial"/>
              </a:rPr>
              <a:t>επίπτωση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που συνεχώς αυξάνετα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Σημαντική </a:t>
            </a:r>
            <a:r>
              <a:rPr b="1" i="1" lang="el-GR" sz="2800" spc="-1" strike="noStrike">
                <a:solidFill>
                  <a:srgbClr val="ffffff"/>
                </a:solidFill>
                <a:latin typeface="Arial"/>
              </a:rPr>
              <a:t>νοσηρότητα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- οργανική και ψυχοκοινωνική δυσλειτουργία πάσχοντο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Σοβαρές </a:t>
            </a:r>
            <a:r>
              <a:rPr b="1" i="1" lang="el-GR" sz="2800" spc="-1" strike="noStrike">
                <a:solidFill>
                  <a:srgbClr val="ffffff"/>
                </a:solidFill>
                <a:latin typeface="Arial"/>
              </a:rPr>
              <a:t>επιπλοκέ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ffffff"/>
                </a:solidFill>
                <a:latin typeface="Arial"/>
              </a:rPr>
              <a:t>Δύσκολη αντιμετώπιση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, συχνές υποτροπέ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ffffff"/>
                </a:solidFill>
                <a:latin typeface="Arial"/>
              </a:rPr>
              <a:t>Επιφυλακτική πρόγνωση, υψηλή θνητότητ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6d1ec"/>
                </a:solidFill>
                <a:latin typeface="Arial"/>
              </a:rPr>
              <a:t>Anorexia nervosa </a:t>
            </a:r>
            <a:r>
              <a:rPr b="1" lang="el-GR" sz="4400" spc="-1" strike="noStrike">
                <a:solidFill>
                  <a:srgbClr val="86d1ec"/>
                </a:solidFill>
                <a:latin typeface="Arial"/>
              </a:rPr>
              <a:t>(1)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507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ρώτη περιγραφή το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74 από τον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r William G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ρισμός – κριτήρια διάγνωσης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.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Άρνηση διατήρησης του ελάχιστου για την ηλικία και το ύψος σωματικού βάρους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(απώλεια βάρους ή μη πρόσληψη βάρους σε περίοδο σωματικής αύξησης, ώστε το σωματικό βάρος να  υπολείπεται κατά </a:t>
            </a:r>
            <a:r>
              <a:rPr b="1" i="1" lang="el-GR" sz="18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15%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του φυσιολογικού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Β.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Έντονος φόβος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 για την παχυσαρκία και την πρόσληψη βάρου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Γ.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Διαταραχή της εικόνας σώματος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(ο ασθενής αισθάνεται παχύσαρκος, παρά το ότι είναι ελλιποβαρής) 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και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επίμονη άρνηση παραδοχής της νόσου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και της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βαρύτητας της κατάσταση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Δ.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Αμηνόρροια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(πρωτοπαθής-25% ή δευτεροπαθής : απουσία τουλάχιστον 3 αναμενόμενων διαδοχικών κύκλων εμμηνορρυσία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________________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agnostic and Statistical Manual of Mental Disorders of the </a:t>
            </a:r>
            <a:r>
              <a:rPr b="1" lang="el-GR" sz="12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rican Psychiatric Association,                      4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ed. Washington, DC, APA Press, 1994 </a:t>
            </a:r>
            <a:r>
              <a:rPr b="1" lang="el-GR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SM</a:t>
            </a:r>
            <a:r>
              <a:rPr b="1" lang="el-GR" sz="1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el-GR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7782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6d1ec"/>
                </a:solidFill>
                <a:latin typeface="Arial"/>
              </a:rPr>
              <a:t>Anorexia nervosa</a:t>
            </a:r>
            <a:r>
              <a:rPr b="1" lang="el-GR" sz="4400" spc="-1" strike="noStrike">
                <a:solidFill>
                  <a:srgbClr val="86d1ec"/>
                </a:solidFill>
                <a:latin typeface="Arial"/>
              </a:rPr>
              <a:t> (2)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507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1" lang="el-GR" sz="1800" spc="-1" strike="noStrike" u="sng">
                <a:solidFill>
                  <a:srgbClr val="ffffff"/>
                </a:solidFill>
                <a:uFillTx/>
                <a:latin typeface="Arial"/>
              </a:rPr>
              <a:t>ρισμός – κριτήρια διάγνωσης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Υπερδραστηριότητα, έντονη σωματική άσκηση,διαταραχές ύπνο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Ψυχικές μεταβολές, «περίεργη» διαιτητική συμπεριφορά και χειρισμός της τροφή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πουσία υποκείμενης οργανικής νόσου που να ευθύνεται για την απώλεια βάρου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l-GR" sz="1800" spc="-1" strike="noStrike" u="sng">
                <a:solidFill>
                  <a:srgbClr val="ffffff"/>
                </a:solidFill>
                <a:uFillTx/>
                <a:latin typeface="Arial"/>
              </a:rPr>
              <a:t>Διαιτητικοί τύπο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.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Περιοριστικός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(νηστείας , αποχής από την τροφή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Β.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Βουλιμικός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    (επεισόδια πολυφαγίας σε συνδυασμό με τ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ρόκληση εμέτου και τη χρήση καθαρτικών ή διουρητικώ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_________________________________________________________________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agnostic and Statistical Manual of Mental Disorders of the </a:t>
            </a:r>
            <a:r>
              <a:rPr b="1" lang="el-GR" sz="12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rican Psychiatric Association,                      4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ed. Washington, DC, APA Press, 1994 </a:t>
            </a:r>
            <a:r>
              <a:rPr b="1" lang="el-GR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SM</a:t>
            </a:r>
            <a:r>
              <a:rPr b="1" lang="el-GR" sz="1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el-GR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744640" y="0"/>
            <a:ext cx="37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6d1ec"/>
                </a:solidFill>
                <a:latin typeface="Arial"/>
              </a:rPr>
              <a:t>ΕΠΙΔΗΜΙΟΛΟΓΙΑ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Επίπτωση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0.5-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Κορίτσια / αγόρια: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20 / 1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Υψηλή  κοινωνικο-οικονομική  θέσ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Λευκή φυλ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Υψηλό μορφωτικό επίπεδο, πολύ καλή σχολική ή ακαδημαϊκή επίδοσ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Ηλικία : δεύτερη δεκαετία ζωή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- 13 εώς 20 ετών : 85%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- έναρξη στην παιδική ηλικία : 3%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- δικόρυφη καμπύλη εμφάνισης της νόσου: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και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18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ετώ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6d1ec"/>
                </a:solidFill>
                <a:latin typeface="Arial"/>
              </a:rPr>
              <a:t>ΕΠΙΔΗΜΙΟΛΟΓΙΑ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Σημαντική αύξηση επίπτωσης της νόσου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(1930-1980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ύξηση της επίπτωσης στα </a:t>
            </a: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κατώτερα κοινωνικοικονομικά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στρώματ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ύξηση της επίπτωσης σε άλλες φυλέ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ύξηση της επίπτωσης σε αναπτυσσόμενες χώρε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_____________________________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ucas AR, Beard CM, O’ Fallon WM, Kurland LT </a:t>
            </a:r>
            <a:r>
              <a:rPr b="1" lang="el-GR" sz="1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fty</a:t>
            </a:r>
            <a:r>
              <a:rPr b="1" lang="el-GR" sz="1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ear trends in the incidence of anorexia nervosa in Rochester, Minn </a:t>
            </a:r>
            <a:r>
              <a:rPr b="1" lang="el-GR" sz="1400" spc="-1" strike="noStrike">
                <a:solidFill>
                  <a:srgbClr val="ffffff"/>
                </a:solidFill>
                <a:latin typeface="Arial"/>
              </a:rPr>
              <a:t>: Α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pulation based study.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Am J Psychiat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148 </a:t>
            </a:r>
            <a:r>
              <a:rPr b="1" lang="el-GR" sz="1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17</a:t>
            </a:r>
            <a:r>
              <a:rPr b="1" lang="el-GR" sz="1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22, 1991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ΑΙΤΙΟΛΟΓΙΑ - ΠΡΟΔΙΑΘΕΣΙΚΟΙ ΠΑΡΑΓΟΝΤΕ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ύνθετη αιτιολογία - αλληλεπίδραση ποικίλων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βιοψυχοκοινωνικών παραγόντω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«Ευαίσθητη»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ροσωπικότητ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Προδιαθεσικοί παράγοντες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1. Ιστορικό ελαφράς υπέρβασης σωματικού βάρους, παχυσαρκία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2. Τελειομανής συμπεριφορ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3. Συγγενείς α΄ βαθμού μ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orexia nervosa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4. Ομοφυλοφυλία στα αγόρι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5. «Λεπτή» σιλουέτα (αθλήτριες ρυθμικής γυμναστικής, χορεύτριες μπαλέτου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6. Κατάθλιψη – συναισθηματική αστάθεια, έλλειψη αυτοπεποίθηση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7. Σεξουαλική κακοποίηση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ΑΙΤΙΟΛΟΓΙΑ - ΕΚΛΥΤΙΚΟΙ ΠΑΡΑΓΟΝΤΕ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Εκλυτικοί παράγοντες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1. Πίεση ΜΜΕ, γονέων, καθηγητών, ιατρών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πρότυπο «λεπτής» και αθλητικής σιλουέτα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2. Σοβαρή </a:t>
            </a: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ασθένεια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ή </a:t>
            </a: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θάνατος συγγενικού προσώπο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Αλλαγή τόπου διαμονή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4. Μικρή απώλεια βάρους μετά από </a:t>
            </a: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ήπια ασθένεια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(ιογενές νόσημα, γαστρεντερίτις κλπ) που ακολούθως συνεχίζεται εκούσι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71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«Γεννιέσαι </a:t>
            </a:r>
            <a:r>
              <a:rPr b="1" i="1" lang="el-GR" sz="3200" spc="-1" strike="noStrike">
                <a:solidFill>
                  <a:srgbClr val="ffffff"/>
                </a:solidFill>
                <a:latin typeface="Arial"/>
              </a:rPr>
              <a:t>δύο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φορές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η μία οδηγεί στην απλή ύπαρξη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η άλλη στην ίδια τη ΖΩΗ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Jean Jaques Rousse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79640" y="104760"/>
            <a:ext cx="474012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d1ec"/>
                </a:solidFill>
                <a:latin typeface="Arial"/>
              </a:rPr>
              <a:t>ΣΤΑΔΙΑ  ΕΓΚΑΤΑΣΤΑΣΗ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Υποθερμιδική δίαιτα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πρόγραμμα γυμναστική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Απώλεια βάρου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Αμηνόρροι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Απώλεια όρεξης, </a:t>
            </a: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αίσθημα ικανοποίηση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Στόχοι για όλο και μεγαλύτερη απώλεια βάρου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Μεταβολή συμπεριφοράς : </a:t>
            </a: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εμμονή, απομόνωση, απόλυτη αφοσίωση στο «στόχο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Σημαντική απώλεια βάρους - απίσχνασ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Επιπλοκέ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d1ec"/>
                </a:solidFill>
                <a:latin typeface="Arial"/>
              </a:rPr>
              <a:t>ΙΣΤΟΡΙΚ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Ερωτήσεις για το βάρος σώματο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Ιστορικό διαιτητικών συνηθειώ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Ιστορικό εμμηνορρυσία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Ερωτήσεις σχετικά με τη φοβία με το βάρος σώματος και την ενασχόληση με την τροφ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Ιστορικό σωματικής δραστηριότητα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Ερωτήσεις για την ψυχική κατάστασ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Ερωτήσεις για τη φυσική κατάσταση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6d1ec"/>
                </a:solidFill>
                <a:latin typeface="Arial"/>
              </a:rPr>
              <a:t>ΣΥΜΠΤΩΜΑΤ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Κατά την εμφάνιση της νόσου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Απώλεια βάρου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Αμηνόρροι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Υπερδραστηριότητ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Διαταραχή συμπεριφορά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(απομόνωση, ευερεθιστότητα, διαταραχές ύπνου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d1ec"/>
                </a:solidFill>
                <a:latin typeface="Arial"/>
              </a:rPr>
              <a:t>ΦΥΣΙΚΗ  ΕΞΕΤΑΣ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686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1. Απίσχναση, αφυδάτωσ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2. Απώλεια τριχών κεφαλής και εφηβαίο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Δέρμα :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ξηρότητα, «βρώμικη» όψη, χνούδι προσώπου, ώμων,  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     ράχης, τρίχωση στέρνου, κοιλιακής χώρα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Υποθερμία (θερμοκρασία ορθού 36.2</a:t>
            </a:r>
            <a:r>
              <a:rPr b="1" i="1" lang="el-GR" sz="2000" spc="-1" strike="noStrike" baseline="30000">
                <a:solidFill>
                  <a:srgbClr val="ffffff"/>
                </a:solidFill>
                <a:latin typeface="Arial"/>
              </a:rPr>
              <a:t>0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Βραδυκαρδία (60 παλμοί / λεπτό), υπόταση &lt; 80/50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mH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Οιδήματα κάτω άκρω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Σημεία οιστρογονικής ανεπάρκεια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( ξηρότητα κόλπου, υποπλαστική μήτρα, οστεοπενία-οστεοπόρωση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d1ec"/>
                </a:solidFill>
                <a:latin typeface="Arial"/>
              </a:rPr>
              <a:t>ΕΡΓΑΣΤΗΡΙΑΚΑ  ΕΥΡΗΜΑΤΑ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. </a:t>
            </a:r>
            <a:r>
              <a:rPr b="1" lang="el-GR" sz="1800" spc="-1" strike="noStrike" u="sng">
                <a:solidFill>
                  <a:srgbClr val="ffffff"/>
                </a:solidFill>
                <a:uFillTx/>
                <a:latin typeface="Arial"/>
              </a:rPr>
              <a:t>ΒΙΟΧΗΜΙΚΑ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Φυσιολογικές τιμές σε πρώϊμα στάδι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υξημένη τιμή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ουρίας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πλάσματο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υξημένη τιμή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χοληστερόλη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υξημένες τιμές τρανσαμινασώ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Χαμηλές τιμές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ψευδαργύρο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Υποφωσφαταιμία (όψιμο και δυσμενές εύρημα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Β. </a:t>
            </a:r>
            <a:r>
              <a:rPr b="1" lang="el-GR" sz="1800" spc="-1" strike="noStrike" u="sng">
                <a:solidFill>
                  <a:srgbClr val="ffffff"/>
                </a:solidFill>
                <a:uFillTx/>
                <a:latin typeface="Arial"/>
              </a:rPr>
              <a:t>ΕΝΔΟΚΡΙΝΟΛΟΓΙΚΑ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Χαμηλές (πρεοεφηβικές τιμές) γοναδοτροπινώ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Χαμηλές τιμές των ορμονών του φύλου (οιστρογόνων, ανδρογόνω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Υπερκορτιζολαιμί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Ελάττωση της θυρεοειδικής λειτουργίας (Τ</a:t>
            </a:r>
            <a:r>
              <a:rPr b="1" lang="el-GR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, Τ</a:t>
            </a:r>
            <a:r>
              <a:rPr b="1" lang="el-GR" sz="1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d1ec"/>
                </a:solidFill>
                <a:latin typeface="Arial"/>
              </a:rPr>
              <a:t>ΕΡΓΑΣΤΗΡΙΑΚΑ  ΕΥΡΗΜΑΤΑ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Γ. </a:t>
            </a:r>
            <a:r>
              <a:rPr b="1" lang="el-GR" sz="2800" spc="-1" strike="noStrike" u="sng">
                <a:solidFill>
                  <a:srgbClr val="ffffff"/>
                </a:solidFill>
                <a:uFillTx/>
                <a:latin typeface="Arial"/>
              </a:rPr>
              <a:t>ΑΙΜΑΤΟΛΟΓΙΚΑ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Πολύ χαμηλή ΤΚΕ (&lt;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m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l-GR" sz="2800" spc="-1" strike="noStrike" u="sng">
                <a:solidFill>
                  <a:srgbClr val="ffffff"/>
                </a:solidFill>
                <a:uFillTx/>
                <a:latin typeface="Arial"/>
              </a:rPr>
              <a:t>ΟΨΙΜ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Λευκοπενί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Θρομβοπενί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Αναιμί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d1ec"/>
                </a:solidFill>
                <a:latin typeface="Arial"/>
              </a:rPr>
              <a:t>ΔΙΑΦΟΡΟΔΙΑΓΝΩΣΗ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Ιδιοπαθής φλεγμονώδης νόσος του εντέρου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Ινοκυστική νόσος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Κακοήθειες , νεοπλάσματα εγκεφάλο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Σύνδρομο απίσχνασης του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Σύνδρομα δυσαπορρόφηση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Ινσουλινοεξαρτώμενος ΣΔ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Θυρεοτοξίκωσ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Παρασιτώσεις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πεπτικο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_____________________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ffffff"/>
                </a:solidFill>
                <a:latin typeface="Arial"/>
              </a:rPr>
              <a:t>Νοσήματα με αυξημένη επίπτωση διατροφικών διαταραχών (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orbidity</a:t>
            </a:r>
            <a:r>
              <a:rPr b="1" lang="el-G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d1ec"/>
                </a:solidFill>
                <a:latin typeface="Arial"/>
              </a:rPr>
              <a:t>ΔΙΑΦΟΡΟΔΙΑΓΝΩΣΗ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Κατάθλιψ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Σχιζοφρένει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Νευρώσει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Διαταραχή προσωπικότητα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Χρήση ουσιώ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6d1ec"/>
                </a:solidFill>
                <a:latin typeface="Arial"/>
              </a:rPr>
              <a:t>ΕΦΗΒΕΙΑ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Έφηβος : «υποψήφιος ενήλικα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Η εφηβεία είναι μια συναρπαστική περίοδος σωματικών και ψυχικών μεταβολών με τελικό στόχο τη μετάβαση από την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παιδική ηλικί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στην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ενηλικίωσ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d1ec"/>
                </a:solidFill>
                <a:latin typeface="Arial"/>
              </a:rPr>
              <a:t>ΠΟΡΕΙΑ ΝΟΣΟΥ – ΕΠΙΠΛΟΚΕΣ (Α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 u="sng">
                <a:solidFill>
                  <a:srgbClr val="ffffff"/>
                </a:solidFill>
                <a:uFillTx/>
                <a:latin typeface="Arial"/>
              </a:rPr>
              <a:t>Περιοριστικός τύπος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1. Καταστολή του μυελού των οστώ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(αναιμία, λευκοπενία, θρομβοπενί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2. Ανοσοανεπάρκεια (διαταραχή της χυμικής και κυτταρικής ανοσία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3. Λοιμώξεις (όταν απώλεια βάρους </a:t>
            </a:r>
            <a:r>
              <a:rPr b="1" i="1" lang="el-GR" sz="20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 40% του βάρους σώματο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4. Κλινική εκδήλωση ανεπάρκειας ψευδαργύρου (αργή επούλωση των πληγών, ψυχικές διαταραχέ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5. Υποφωσφαταιμία : καρδιακή ανεπάρκεια, καταστολή ΚΝΣ, αιμολυτική αναιμία, ραβδομυόλυσ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d1ec"/>
                </a:solidFill>
                <a:latin typeface="Arial"/>
              </a:rPr>
              <a:t>ΠΟΡΕΙΑ ΝΟΣΟΥ – ΕΠΙΠΛΟΚΕΣ (Β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Βουλιμικός τύπος</a:t>
            </a: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Πρόκληση εμέτου και χρήση καθαρτικών : απώλεια υγρών – υποογκαιμί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Παραγωγή αλδοστερόνης από τους νεφρούς (δευτεροπαθής υπεραλδοστερονισμό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Αποκατάσταση όγκου και μικρή κατακράτηση υγρώ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Πανικός ασθενούς, πρόκληση εμέτων και κατάχρηση καθαρτικού (εως 60 δόσεις ημερησίως !!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ΣΟΒΑΡΕΣ ΔΙΑΤΑΡΑΧΕΣ ΠΟΥ ΑΠΕΙΛΟΥΝ ΤΗ ΖΩ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d1ec"/>
                </a:solidFill>
                <a:latin typeface="Arial"/>
              </a:rPr>
              <a:t>ΠΟΡΕΙΑ ΝΟΣΟΥ – ΕΠΙΠΛΟΚΕΣ (Γ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29840" y="83628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l-GR" sz="1600" spc="-1" strike="noStrike" u="sng">
                <a:solidFill>
                  <a:srgbClr val="ffffff"/>
                </a:solidFill>
                <a:uFillTx/>
                <a:latin typeface="Arial"/>
              </a:rPr>
              <a:t>Βουλιμικός τύπος</a:t>
            </a: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Α. </a:t>
            </a:r>
            <a:r>
              <a:rPr b="1" i="1" lang="el-GR" sz="1600" spc="-1" strike="noStrike" u="sng">
                <a:solidFill>
                  <a:srgbClr val="ffffff"/>
                </a:solidFill>
                <a:uFillTx/>
                <a:latin typeface="Arial"/>
              </a:rPr>
              <a:t>Πρόκληση εμέτω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- Υποογκαιμί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- Υπονατριαιμία, υποκαλιαιμί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- Υποχλωραιμική μεταβολική αλκάλωσ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- Κατάχρηση ιπεκακουάνας – μυοκαρδιοπάθει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Β. </a:t>
            </a:r>
            <a:r>
              <a:rPr b="1" i="1" lang="el-GR" sz="1600" spc="-1" strike="noStrike" u="sng">
                <a:solidFill>
                  <a:srgbClr val="ffffff"/>
                </a:solidFill>
                <a:uFillTx/>
                <a:latin typeface="Arial"/>
              </a:rPr>
              <a:t>Κατάχρηση καθαρτικών</a:t>
            </a: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- Υποογκαιμί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- Μεταβολική οξέωσ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- Υποκαλιαιμία </a:t>
            </a:r>
            <a:r>
              <a:rPr b="1" i="1" lang="el-GR" sz="1400" spc="-1" strike="noStrike">
                <a:solidFill>
                  <a:srgbClr val="ffffff"/>
                </a:solidFill>
                <a:latin typeface="Arial"/>
              </a:rPr>
              <a:t>( &lt; 15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mEq</a:t>
            </a:r>
            <a:r>
              <a:rPr b="1" i="1" lang="el-GR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it </a:t>
            </a:r>
            <a:r>
              <a:rPr b="1" i="1" lang="el-GR" sz="1400" spc="-1" strike="noStrike">
                <a:solidFill>
                  <a:srgbClr val="ffffff"/>
                </a:solidFill>
                <a:latin typeface="Arial"/>
              </a:rPr>
              <a:t>σε τυχαίο δείγμα ούρων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Γ. </a:t>
            </a:r>
            <a:r>
              <a:rPr b="1" i="1" lang="el-GR" sz="1600" spc="-1" strike="noStrike" u="sng">
                <a:solidFill>
                  <a:srgbClr val="ffffff"/>
                </a:solidFill>
                <a:uFillTx/>
                <a:latin typeface="Arial"/>
              </a:rPr>
              <a:t>Κατάχρηση διουρητικώ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- Υπερχλωραιμική οξέωσ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- Υπονατριαιμία, υποκαλιαιμία </a:t>
            </a:r>
            <a:r>
              <a:rPr b="1" i="1" lang="el-GR" sz="1400" spc="-1" strike="noStrike">
                <a:solidFill>
                  <a:srgbClr val="ffffff"/>
                </a:solidFill>
                <a:latin typeface="Arial"/>
              </a:rPr>
              <a:t>( &gt; 3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mEq</a:t>
            </a:r>
            <a:r>
              <a:rPr b="1" i="1" lang="el-GR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it </a:t>
            </a:r>
            <a:r>
              <a:rPr b="1" i="1" lang="el-GR" sz="1400" spc="-1" strike="noStrike">
                <a:solidFill>
                  <a:srgbClr val="ffffff"/>
                </a:solidFill>
                <a:latin typeface="Arial"/>
              </a:rPr>
              <a:t>σε τυχαίο δείγμα ούρων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d1ec"/>
                </a:solidFill>
                <a:latin typeface="Arial"/>
              </a:rPr>
              <a:t>ΠΟΡΕΙΑ ΝΟΣΟΥ – ΕΠΙΠΛΟΚΕΣ (Δ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Βουλιμικός τύπος</a:t>
            </a: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Υποογκαιμικό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h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αρδιακή αρρυθμί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Οξεία νεφρική ανεπάρκει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Υποχλωραιμική μεταβολική αλκάλωσ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Μεταβολική οξέωσ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Σοβαρή υπερνατριαιμί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d1ec"/>
                </a:solidFill>
                <a:latin typeface="Arial"/>
              </a:rPr>
              <a:t>ΠΡΟΓΝΩΣ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λήρης αποκατάσταση : 4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Βελτίωση : 3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Μη βελτίωση : 2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Θνητότητα : 5-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ffffff"/>
                </a:solidFill>
                <a:uFillTx/>
                <a:latin typeface="Arial"/>
              </a:rPr>
              <a:t>Αίτια θανάτου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αυτοκτονία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, καρδιακή αρρυθμία, επιπλοκές επανασίτισης, ηλεκτρολυτικές διαταραχές, λοιμώξει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ffffff"/>
                </a:solidFill>
                <a:uFillTx/>
                <a:latin typeface="Arial"/>
              </a:rPr>
              <a:t>Επιβαρυντικοί παράγοντες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Όψιμη διάγνωσ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νδρικό φύλ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Μεγαλύτερη ηλικία εμφάνιση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Βουλιμικός τύπο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d1ec"/>
                </a:solidFill>
                <a:latin typeface="Arial"/>
              </a:rPr>
              <a:t>ΒΟΥΛΙΜΙΑ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nkard 1959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, 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ber 19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ρισμός – κριτήρια διάγνωσης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.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Υποτροπιάζοντα επεισόδια πολυφαγίας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που χαρακτηρίζονται από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1. Κατανάλωση </a:t>
            </a:r>
            <a:r>
              <a:rPr b="1" i="1" lang="el-GR" sz="1800" spc="-1" strike="noStrike">
                <a:solidFill>
                  <a:srgbClr val="ff0066"/>
                </a:solidFill>
                <a:latin typeface="Arial"/>
              </a:rPr>
              <a:t>αντικειμενικά μεγάλης ποσότητας τροφής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σ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συγκεκριμένο χρόνο (πχ δύο ώρε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2. Αίσθημα </a:t>
            </a:r>
            <a:r>
              <a:rPr b="1" i="1" lang="el-GR" sz="1800" spc="-1" strike="noStrike">
                <a:solidFill>
                  <a:srgbClr val="ff0066"/>
                </a:solidFill>
                <a:latin typeface="Arial"/>
              </a:rPr>
              <a:t>απώλειας αυτοελέγχου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κατά το επεισόδιο (η ασθενής δε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ελέγχει το πότε θα σταματήσει ή το πόσο θα φάε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Β. 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Εφαρμογή </a:t>
            </a:r>
            <a:r>
              <a:rPr b="1" i="1" lang="el-GR" sz="1800" spc="-1" strike="noStrike">
                <a:solidFill>
                  <a:srgbClr val="ff0066"/>
                </a:solidFill>
                <a:latin typeface="Arial"/>
              </a:rPr>
              <a:t>ακατάλληλων και επικίνδυνων αντιρροπιστικών τακτικών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, προκειμένου να ελεγχθεί το βάρος σώματος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(πρόκληση εμέτου, χρήση καθαρτικών ή διουρητικών, εξαντλητική υπερδραστηριότητα ή σωματική άσκηση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________________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iagnostic and Statistical Manual of Mental Disorders of the </a:t>
            </a:r>
            <a:r>
              <a:rPr b="1" lang="el-GR" sz="10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rican Psychiatric Association,    4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ed. Washington, DC, APA Press, 1994 </a:t>
            </a:r>
            <a:r>
              <a:rPr b="1" lang="el-GR" sz="1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SM</a:t>
            </a:r>
            <a:r>
              <a:rPr b="1" lang="el-GR" sz="1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el-GR" sz="1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d1ec"/>
                </a:solidFill>
                <a:latin typeface="Arial"/>
              </a:rPr>
              <a:t>ΒΟΥΛΙΜΙΑ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ρισμός – κριτήρια διάγνωσης: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Γ.</a:t>
            </a:r>
            <a:r>
              <a:rPr b="0" lang="el-GR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Εμφάνιση δύο(2) επεισοδίων την εβδομάδα για τρείς(3) μήνε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Δ. Η αυτο-αξιολόγηση βασίζεται σχεδόν αποκλειστικά στο σχήμα και το βάρος του σώματος (υπερβολική ενασχόληση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Ε. Η διαταραχή δεν παρουσιάζεται αποκλειστικά στα πλαίσια κρίσεων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orexia nervosa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ffffff"/>
                </a:solidFill>
                <a:uFillTx/>
                <a:latin typeface="Arial"/>
              </a:rPr>
              <a:t>Βουλιμικοί τύποι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Α.</a:t>
            </a:r>
            <a:r>
              <a:rPr b="0" lang="el-G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Καθαρτικός</a:t>
            </a:r>
            <a:r>
              <a:rPr b="0" lang="el-GR" sz="1600" spc="-1" strike="noStrike">
                <a:solidFill>
                  <a:srgbClr val="ffffff"/>
                </a:solidFill>
                <a:latin typeface="Arial"/>
              </a:rPr>
              <a:t> (η ασθενής προκαλεί έμετο ή χρησιμοποιεί καθαρτικά ή διουρητικά,    </a:t>
            </a:r>
            <a:r>
              <a:rPr b="0" lang="el-G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ffffff"/>
                </a:solidFill>
                <a:latin typeface="Arial"/>
              </a:rPr>
              <a:t>          προκειμένου να αποφύγει τη αύξηση του σωματικού βάρους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Β. </a:t>
            </a: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Μη καθαρτικός</a:t>
            </a:r>
            <a:r>
              <a:rPr b="0" lang="el-GR" sz="1600" spc="-1" strike="noStrike">
                <a:solidFill>
                  <a:srgbClr val="ffffff"/>
                </a:solidFill>
                <a:latin typeface="Arial"/>
              </a:rPr>
              <a:t> (η ασθενής δεν προκαλεί έμετο και δεν χρησιμοποιεί φάρμακα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l-GR" sz="1600" spc="-1" strike="noStrike">
                <a:solidFill>
                  <a:srgbClr val="ffffff"/>
                </a:solidFill>
                <a:latin typeface="Arial"/>
              </a:rPr>
              <a:t>ωστόσο υποβάλλεται σε υπερβολική σωματική δραστηριότητα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l-GR" sz="1600" spc="-1" strike="noStrike">
                <a:solidFill>
                  <a:srgbClr val="ffffff"/>
                </a:solidFill>
                <a:latin typeface="Arial"/>
              </a:rPr>
              <a:t>____________________________________________________________________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iagnostic and Statistical Manual of Mental Disorders of the </a:t>
            </a:r>
            <a:r>
              <a:rPr b="1" lang="el-GR" sz="10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rican Psychiatric Association,  4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ed. Washington, DC, APA Press, 1994 </a:t>
            </a:r>
            <a:r>
              <a:rPr b="1" lang="el-GR" sz="1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SM</a:t>
            </a:r>
            <a:r>
              <a:rPr b="1" lang="el-GR" sz="1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el-GR" sz="1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d1ec"/>
                </a:solidFill>
                <a:latin typeface="Arial"/>
              </a:rPr>
              <a:t>Επιδημιολογία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πίπτωση </a:t>
            </a:r>
            <a:r>
              <a:rPr b="1" i="1" lang="el-GR" sz="2800" spc="-1" strike="noStrike">
                <a:solidFill>
                  <a:srgbClr val="ffffff"/>
                </a:solidFill>
                <a:latin typeface="Arial"/>
              </a:rPr>
              <a:t>1-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ffffff"/>
                </a:solidFill>
                <a:latin typeface="Arial"/>
              </a:rPr>
              <a:t>Σημαντική αύξηση επίπτωσης της νόσου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l-GR" sz="2800" spc="-1" strike="noStrike">
                <a:solidFill>
                  <a:srgbClr val="ffffff"/>
                </a:solidFill>
                <a:latin typeface="Arial"/>
              </a:rPr>
              <a:t>– «επιδημία» στις ΗΠ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Κορίτσια / αγόρια : </a:t>
            </a:r>
            <a:r>
              <a:rPr b="1" i="1" lang="el-GR" sz="2800" spc="-1" strike="noStrike">
                <a:solidFill>
                  <a:srgbClr val="ffffff"/>
                </a:solidFill>
                <a:latin typeface="Arial"/>
              </a:rPr>
              <a:t>10/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Υψηλή  κοινωνικο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ικονομική  θέσ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Λευκή φυλ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Ηλικία : όψιμη εφηβεία και νεαροί ενήλικε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ΠΡΟΔΙΑΘΕΣΙΚΟΙ  ΠΑΡΑΓΟΝΤΕΣ (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507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Ιστορικό ελαφράς υπέρβασης σωματικού βάρους, παχυσαρκία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Κατάθλιψη – συναισθηματική αστάθεια, έλλειψη αυτοπεποίθησης και αυτοελέγχο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Περιβάλλον που δίνει έμφαση στην εμφάνιση και τη σωστή διαιτητική συμπεριφορά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Προβληματικές οικογενειακές σχέσει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σθενείς μ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orexia nervosa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που αυξήσαν το βάρος τους πολύ γρήγορα ή κάτω από πίεσ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d1ec"/>
                </a:solidFill>
                <a:latin typeface="Arial"/>
              </a:rPr>
              <a:t>ΠΡΟΔΙΑΘΕΣΙΚΟΙ  ΠΑΡΑΓΟΝΤΕΣ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l-GR" sz="1800" spc="-1" strike="noStrike" u="sng">
                <a:solidFill>
                  <a:srgbClr val="ffffff"/>
                </a:solidFill>
                <a:uFillTx/>
                <a:latin typeface="Arial"/>
              </a:rPr>
              <a:t>Διαταραχή  προσωπικότητας (&lt; 30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- ανεξέλεγχτη και αυτοκαταστροφική συμπεριφορ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- παραβατικότητα, αντικοινωνική συμπεριφορά (πχ κλεπτομανί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-  σεξουαλική υπερδραστηριότητα με πολλούς συντρόφου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- χρήση αλκοόλ, ναρκωτικ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- προβληματική οικογένεια (διαζύγιο, δύσλειτουργικές σχέσεις, χρήσ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ουσιώ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277560"/>
            <a:ext cx="7201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d1ec"/>
                </a:solidFill>
                <a:latin typeface="Arial"/>
              </a:rPr>
              <a:t>ΣΤΑΘΜΟΙ  ΣΩΜΑΤΙΚΗΣ ΑΝΑΠΤΥΞΗ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Το παιδικό σώμα παρουσιάζει ραγδαία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αύξηση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και αναπτύσσονται τα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δευτερεύοντα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χαρακτηριστικά του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φύλο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Το άτομο αποκτά την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ικανότητα αναπαραγωγή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d1ec"/>
                </a:solidFill>
                <a:latin typeface="Arial"/>
              </a:rPr>
              <a:t>ΣΤΑΔΙΑ  ΕΓΚΑΤΑΣΤΑΣΗ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Πεποίθηση ή ενθάρρυνση από φίλο ότι η πρόκληση εμέτων και η χρήση καθαρτικών μπορούν αποτελεσματικά και ακίνδυνα να ελέγχξουν το βάρος σώματος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Βουλιμικά επεισόδια : κατανάλωση μεγάλων ποσοτήτων τροφή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πλούσιας σε υδατάνθρακες και λίπος, </a:t>
            </a:r>
            <a:r>
              <a:rPr b="1" lang="el-GR" sz="1800" spc="-1" strike="noStrike">
                <a:solidFill>
                  <a:srgbClr val="ff0066"/>
                </a:solidFill>
                <a:latin typeface="Arial"/>
              </a:rPr>
              <a:t>μυστικά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και γρήγορ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Η ακατάσχετη υπερφαγία αντιρροπείται με πρόκληση εμέτων, χρήση διουρητικών και καθαρτικών ή υπερδραστηριότητ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Η συνεχής ενασχόληση με την τροφή (πολυφαγία-αντιρροπιστικοί χειρισμοί και συνεχής προσπάθεια απόκρυψης) οδηγεί σε εμμονή, σοβαρή ψυχοκοινωνική δυσλειτουργία και οργανικές επιπλοκέ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d1ec"/>
                </a:solidFill>
                <a:latin typeface="Arial"/>
              </a:rPr>
              <a:t>ΣΥΜΠΤΩΜΑΤ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Φυσιολογικό βάρος σώματος (μπορεί και υπέρβαρη ή ελλιποβαρή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Υπερδραστηριότητα – οι εξαιρέσεις δεν είναι σπάνιε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Πολιδιψία, πολυουρί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Αναφερόμενα οιδήματα και διάρροι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Κατάθλιψη, αυτοκτονικός ιδεασμός, υπερβολικό άγχο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d1ec"/>
                </a:solidFill>
                <a:latin typeface="Arial"/>
              </a:rPr>
              <a:t>ΦΥΣΙΚΗ  ΕΞΕΤΑΣ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Συνήθως περιποιημένη εμφάνιση, σωστή υγιεινή (υπάρχουν συχνά εξαιρέσεις, ειδικά σε περιπτώσεις διαταραχής της προσωπικότητας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Συνήθως φυσιολογικό βάρος (σημαντική εξαίρεση ο βουλιμικός τύπος της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norexia nervosa</a:t>
            </a: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Γενικό ή περιφερικό οίδημ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Διαβρώσεις της αδαμαντίνης ουσίας των δοντιών - ουλίτι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Διόγκωση των παρωτίδω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SzPct val="1854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Έλκη και πληγές της υπερώας και του φάρυγγα, τύλοι των δακτύλω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00"/>
              </a:spcBef>
              <a:buSzPct val="1854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ffffff"/>
                </a:solidFill>
                <a:latin typeface="Arial"/>
              </a:rPr>
              <a:t>Σημεία σημαντικής υποκαλιαιμίας (καρδιακή δυσλειτουργία, μυοπάθεια, διαταραχή του επιπέδου συνείδησης, ειλεός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d1ec"/>
                </a:solidFill>
                <a:latin typeface="Arial"/>
              </a:rPr>
              <a:t>ΕΠΙΠΛΟΚΕΣ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29840" y="83628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. </a:t>
            </a:r>
            <a:r>
              <a:rPr b="1" lang="el-GR" sz="1800" spc="-1" strike="noStrike" u="sng">
                <a:solidFill>
                  <a:srgbClr val="ffffff"/>
                </a:solidFill>
                <a:uFillTx/>
                <a:latin typeface="Arial"/>
              </a:rPr>
              <a:t>Πρόκληση εμέτω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- Υποογκαιμί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- Υπονατριαιμία, υποκαλιαιμί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- Υποχλωραιμική μεταβολική αλκάλωσ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- Κατάχρηση ιπεκακουάνας – μυοκαρδιοπάθει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Β. </a:t>
            </a:r>
            <a:r>
              <a:rPr b="1" lang="el-GR" sz="1800" spc="-1" strike="noStrike" u="sng">
                <a:solidFill>
                  <a:srgbClr val="ffffff"/>
                </a:solidFill>
                <a:uFillTx/>
                <a:latin typeface="Arial"/>
              </a:rPr>
              <a:t>Κατάχρηση καθαρτικών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- Υποογκαιμί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- Μεταβολική οξέωσ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- Υποκαλιαιμία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( &lt; 1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mEq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it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σε τυχαίο δείγμα ούρων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Γ. </a:t>
            </a:r>
            <a:r>
              <a:rPr b="1" lang="el-GR" sz="1800" spc="-1" strike="noStrike" u="sng">
                <a:solidFill>
                  <a:srgbClr val="ffffff"/>
                </a:solidFill>
                <a:uFillTx/>
                <a:latin typeface="Arial"/>
              </a:rPr>
              <a:t>Κατάχρηση διουρητικώ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- Υπερχλωραιμική οξέωσ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- Υπονατριαιμία, υποκαλιαιμία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( &gt; 3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mEq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it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σε τυχαίο δείγμα ούρων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d1ec"/>
                </a:solidFill>
                <a:latin typeface="Arial"/>
              </a:rPr>
              <a:t>ΠΡΟΓΝΩΣ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ffffff"/>
                </a:solidFill>
                <a:latin typeface="Arial"/>
              </a:rPr>
              <a:t>Δεν υπάρχουν μελέτες με μακροχρόνιο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ollow</a:t>
            </a:r>
            <a:r>
              <a:rPr b="1" i="1" lang="el-GR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ffffff"/>
                </a:solidFill>
                <a:latin typeface="Arial"/>
              </a:rPr>
              <a:t>Πλήρης αποκατάσταση ή μακροχρόνια ύφεση ;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ffffff"/>
                </a:solidFill>
                <a:latin typeface="Arial"/>
              </a:rPr>
              <a:t>Ύφεση : 40-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ffffff"/>
                </a:solidFill>
                <a:latin typeface="Arial"/>
              </a:rPr>
              <a:t>Επιβαρυντικός παράγων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l-GR" sz="2800" spc="-1" strike="noStrike">
                <a:solidFill>
                  <a:srgbClr val="ff0066"/>
                </a:solidFill>
                <a:latin typeface="Arial"/>
              </a:rPr>
              <a:t>διαταραχή προσωπικότητα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l-GR" sz="3200" spc="-1" strike="noStrike">
                <a:solidFill>
                  <a:srgbClr val="ffffff"/>
                </a:solidFill>
                <a:latin typeface="Arial"/>
              </a:rPr>
              <a:t>«Άβουλες υπομονές και μυστικές αγάπες σε φρουρού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l-GR" sz="3200" spc="-1" strike="noStrike">
                <a:solidFill>
                  <a:srgbClr val="ffffff"/>
                </a:solidFill>
                <a:latin typeface="Arial"/>
              </a:rPr>
              <a:t>και ταπεινωμένη μένεις στον κλοιό 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1" i="1" lang="el-GR" sz="2000" spc="-1" strike="noStrike">
                <a:solidFill>
                  <a:srgbClr val="86d1ec"/>
                </a:solidFill>
                <a:latin typeface="Arial"/>
              </a:rPr>
              <a:t>Τίλλα  Μπάλ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86d1ec"/>
                </a:solidFill>
                <a:latin typeface="Arial"/>
              </a:rPr>
              <a:t>                                                            </a:t>
            </a:r>
            <a:r>
              <a:rPr b="1" i="1" lang="el-GR" sz="2000" spc="-1" strike="noStrike">
                <a:solidFill>
                  <a:srgbClr val="86d1ec"/>
                </a:solidFill>
                <a:latin typeface="Arial"/>
              </a:rPr>
              <a:t>«Ναι, είναι και η αφαίρεση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d1ec"/>
                </a:solidFill>
                <a:latin typeface="Arial"/>
              </a:rPr>
              <a:t>ΑΝΤΙΜΕΤΩΠΙΣΗ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ΟΜΑΔΑ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Παιδίατρο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Παιδοψυχίατρο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Διαιτολόγος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d1ec"/>
                </a:solidFill>
                <a:latin typeface="Arial"/>
              </a:rPr>
              <a:t>ΑΝΤΙΜΕΤΩΠΙΣΗ - ΣΤΟΧΟ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ffffff"/>
                </a:solidFill>
                <a:latin typeface="Arial"/>
              </a:rPr>
              <a:t>1.  Αποκατάσταση των σωματικών λειτουργιών και του σωματικού βάρους σε φυσιολογικά επίπεδ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ffffff"/>
                </a:solidFill>
                <a:latin typeface="Arial"/>
              </a:rPr>
              <a:t>2.  Επανακαθιέρωση φυσιολογικών διατροφικών συνηθειώ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d1ec"/>
                </a:solidFill>
                <a:latin typeface="Arial"/>
              </a:rPr>
              <a:t>ΑΝΤΙΜΕΤΩΠΙΣΗ (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1. Αντιμετώπιση απειλητικών για τη ζωή διαταραχών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ενδείξεις εισαγωγής στο Νοσοκομεί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2. Κέντρα ημέρας (3-5 ημέρες/εβδομάδα, 6-9 ώρες/ημέρ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3. Αντιμετώπιση εξωτερικών ασθενών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α. Ατομική και οικογενειακή ψυχοθεραπεί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β. Φαρμακοθεραπεί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γ. Διαιτητική παρακολούθηση και επιτήρηση τη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γενικότερης υγείας των ασθενώ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d1ec"/>
                </a:solidFill>
                <a:latin typeface="Arial"/>
              </a:rPr>
              <a:t>ΕΝΔΕΙΞΕΙΣ  ΕΙΣΑΓΩΓΗ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Σοβαρή υποθρεψία (απώλεια βάρους </a:t>
            </a:r>
            <a:r>
              <a:rPr b="1" i="1" lang="el-GR" sz="20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 25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Αφυδάτωση, ηλεκτρολυτικές διαταραχέ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Καρδιακή δυσλειτουργία (σημαντική βραδυκαρδία, αλλοιώσεις στο ΗΚ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Επικείμενο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hock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(ταχυκαρδία, ορθοστατική υπόταση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Οξεία άρνηση λήψης τροφή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Ανεξέλεγκτη πολυφαγί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Επείγουσες ψυχιατρικές καταστάσεις (πχ αυτοκτονικός ιδεασμό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Ακατάλληλες περιβαλλοντικές συνθήκες για την αντιμετώπιση της διαταραχής (πχ σοβαρή οικογενειακή δυσλειτουργί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Αποτυχία εξωνοσοκομειακής αντιμετώπιση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d1ec"/>
                </a:solidFill>
                <a:latin typeface="Arial"/>
              </a:rPr>
              <a:t>ΣΤΑΘΜΟΙ ΨΥΧΟΣΕΞΟΥΑΛΙΚΗΣ ΑΝΑΠΤΥΞΗ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Ψυχικά το άτομο κατακτά την </a:t>
            </a: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ανεξαρτησία,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εγκαταλείποντας το προστατευμένο περιβάλλον της οικογένεια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Ξυπνά το </a:t>
            </a: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ερωτικό ενδιαφέρο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, ξεκινά η σεξουαλική ζω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Το άτομο αποκτά την ικανότητα δημιουργίας </a:t>
            </a: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ώριμων σχέσεω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με ερωτικούς συντρόφους,συνομήλικους και συνανθρώπους γενικότερ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d1ec"/>
                </a:solidFill>
                <a:latin typeface="Arial"/>
              </a:rPr>
              <a:t>ΕΠΑΝΑΣΙΤΙΣ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36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Αποκατάσταση του σωματικού βάρους στο 80% του φυσιολογικού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Α.  Εκούσια λήψη τροφής (συχνότερ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Ρινογαστρικός σωλήνα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Παρεντερική σίτισ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Β. 3 γεύματα και 2-3 μικρά γεύματα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nacks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: 3000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θερμίδες/ ημέρ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Γ. Επιθυμητή αύξηση βάρους : 115 - 350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/ημέρα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Διάρκεια 10-14 εβδομάδε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6d1ec"/>
                </a:solidFill>
                <a:latin typeface="Arial"/>
              </a:rPr>
              <a:t>ΣΥΝΔΡΟΜΟ  ΕΠΑΝΑΣΙΤΙΣΗ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507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Εμφανίζεται σε ασθενείς με σοβαρή υποθρεψία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(απώλεια βάρους &gt; 30 %) όταν επανασιτιστούν γρήγορ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Α. Ήπια μορφή : οίδημα, αύξηση τρανσαμινασώ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Β. Βαριά μορφή : Υποφωσφαταιμία (καρδιακή ανεπάρκεια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καταστολή ΚΝΣ, αιμολυτική αναιμία, ραβδομυόλυση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Σε ασθενείς με σοβαρή υποθρεψία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0066"/>
                </a:solidFill>
                <a:latin typeface="Arial"/>
              </a:rPr>
              <a:t>η επανασίτιση θα πρέπει να αρχίζει σταδιακά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(αρχικά χορήγηση 800-1000 θερμίδων ημερησίως και σταδιακή αύξηση με 100-200 θερμίδες ημερησίως) κα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0066"/>
                </a:solidFill>
                <a:latin typeface="Arial"/>
              </a:rPr>
              <a:t>να χορηγείται προφυλακτικά φώσφορος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ΔΙΑΙΤΗΤΙΚΑ  ΣΥΜΠΛΗΡΩΜΑΤΑ – </a:t>
            </a:r>
            <a:br>
              <a:rPr sz="2800"/>
            </a:b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ΘΕΡΑΠΕΙΑ ΥΠΟΚΑΤΑΣΤΑΣΗ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ffffff"/>
                </a:solidFill>
                <a:latin typeface="Arial"/>
              </a:rPr>
              <a:t>Απαραίτητη ημερήσια πρόσληψη ασβεστίου : </a:t>
            </a:r>
            <a:r>
              <a:rPr b="1" i="1" lang="el-GR" sz="3200" spc="-1" strike="noStrike">
                <a:solidFill>
                  <a:srgbClr val="ff0066"/>
                </a:solidFill>
                <a:latin typeface="Arial"/>
              </a:rPr>
              <a:t>1300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ffffff"/>
                </a:solidFill>
                <a:latin typeface="Arial"/>
              </a:rPr>
              <a:t>Χορήγηση σκευασμάτων </a:t>
            </a:r>
            <a:r>
              <a:rPr b="1" i="1" lang="el-GR" sz="3200" spc="-1" strike="noStrike">
                <a:solidFill>
                  <a:srgbClr val="ff0066"/>
                </a:solidFill>
                <a:latin typeface="Arial"/>
              </a:rPr>
              <a:t>ανθρακικού ασβεστίο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ff0066"/>
                </a:solidFill>
                <a:latin typeface="Arial"/>
              </a:rPr>
              <a:t>Χορήγηση οιστρογόνω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6d1ec"/>
                </a:solidFill>
                <a:latin typeface="Arial"/>
              </a:rPr>
              <a:t>ΨΥΧΟΘΕΡΑΠΕΙΑ- ΦΑΡΜΑΚ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Η ψυχοθεραπεία είναι το «κλειδί» για ένα καλό αποτέλεσμα που μπορεί να έχει διάρκει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Ατομική ψυχοθεραπεία (τεχνικές θετικής ή αρνητικής ενίσχυσης συμπεριφορά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Οικογενειακή ψυχοθεραπεία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Φάρμακα (κυρίως ανταγωνιστές της σεροτονίνης) έχουν θέση κυρίως στην αντιμετώπιση της βουλιμίας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l-GR" sz="2000" spc="-1" strike="noStrike">
                <a:solidFill>
                  <a:srgbClr val="ff0066"/>
                </a:solidFill>
                <a:latin typeface="Arial"/>
              </a:rPr>
              <a:t>Προσοχή στη χορήγηση – ιδιαίτερα σε ασθενείς με διαταραχή προσωπικότητα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d1ec"/>
                </a:solidFill>
                <a:latin typeface="Arial"/>
              </a:rPr>
              <a:t>ΟΙΚΟΓΕΝΕΙ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Υπερπροστατευτική- Μητριαρχικ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«Αυστηρή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Με δυσκολία στη διαχείριση των συγκρούσεων-κρίσεω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Οικογένεια – «παγίδα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ΑΤΥΠΕΣ  ΔΙΑΤΡΟΦΙΚΕΣ  ΔΙΑΤΑΡΑΧΕ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Διατροφικές διαταραχές που δεν πληρούν όλα τα κριτήρια διάγνωση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Υψηλή επίπτωση στις έφηβε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Παρόμοιες ψυχικές διαταραχές με το πλήρες σύνδρομ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Μεγαλύτερες πιθανότητες επιτυχούς αντιμετώπισης στα αρχικά στάδια της νόσο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l-GR" sz="4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l-GR" sz="4800" spc="-1" strike="noStrike">
                <a:solidFill>
                  <a:srgbClr val="ffffff"/>
                </a:solidFill>
                <a:latin typeface="Arial"/>
              </a:rPr>
              <a:t> Β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ody </a:t>
            </a:r>
            <a:r>
              <a:rPr b="1" i="1" lang="el-GR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Betrayed</a:t>
            </a:r>
            <a:r>
              <a:rPr b="1" i="1" lang="el-GR" sz="4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ΕΦΗΒΟΙ : ΜΙΑ ΟΜΑΔΑ ΜΕ  ΙΔΙΑΙΤΕΡΕΣ ΥΓΕΙΟΝΟΜΙΚΕΣ ΑΝΑΓΚΕ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Οι έφηβοι μοιάζουν «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άτρωτοι»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και απόλυτα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υγιεί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Οι παιδικές ασθένειες αποτελούν παρελθόν και τα νοσήματα φθοράς των ενηλίκων είναι μια μελλοντική πιθανότητα που δεν τους απειλεί άμεσ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ΕΦΗΒΟΙ : ΜΙΑ ΟΜΑΔΑ ΜΕ  ΙΔΙΑΙΤΕΡΕΣ ΥΓΕΙΟΝΟΜΙΚΕΣ  ΑΝΑΓΚΕ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Η εφηβεία χαρακτηρίζεται από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έντονο άγχο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σύγχυση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και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ερωτηματικ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για τις σωματικές και ψυχικές αλλαγές που συμβαίνου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φυσιολογική εξερεύνηση των ορίω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προσκόλληση στο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παρό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γνωστική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αδυναμία θεώρησης του μέλλοντο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και των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συνεπειώ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των πράξεω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ΕΦΗΒΟΙ : ΜΙΑ ΟΜΑΔΑ ΜΕ  ΙΔΙΑΙΤΕΡΕΣ ΥΓΕΙΟΝΟΜΙΚΕΣ  ΑΝΑΓΚΕ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l-GR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new  morbidity</a:t>
            </a:r>
            <a:r>
              <a:rPr b="1" i="1" lang="el-GR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l-GR" sz="3600" spc="-1" strike="noStrike">
                <a:solidFill>
                  <a:srgbClr val="ffffff"/>
                </a:solidFill>
                <a:latin typeface="Arial"/>
              </a:rPr>
              <a:t>Συμπεριφορά υψηλού κινδύνο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Συμπεριφορά υψηλού κινδύνο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κα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«ευάλωτη» προσωπικότητα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προδιαθεσικοί παράγοντες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ΔΙΑΤΑΡΑΧ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10:51:03Z</dcterms:created>
  <dc:creator>ARTSPY</dc:creator>
  <dc:description/>
  <dc:language>en-US</dc:language>
  <cp:lastModifiedBy>ABC</cp:lastModifiedBy>
  <dcterms:modified xsi:type="dcterms:W3CDTF">2005-04-12T15:37:21Z</dcterms:modified>
  <cp:revision>31</cp:revision>
  <dc:subject/>
  <dc:title>Slide 1</dc:title>
</cp:coreProperties>
</file>