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B39A-D3AF-4478-A803-B3B252B8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F65-85C1-4407-8E7E-10A0203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60E-404B-4DC4-AF9F-4047A3D0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6D5-DED4-4140-88F3-67753A94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D6B5-F2AD-462A-B82A-DD45CA44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DF0-A73E-40F0-86EE-1E15D9A8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3C46-7270-4AE5-B109-46AC5B77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F6E6-46C6-472F-A0B4-0239E371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775-B515-43DA-B637-CD0FAE75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B0A4-1980-4F66-8521-194E8F49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B1F8-1CD8-4265-BA61-F3A76408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DD11-7C69-4056-966D-66B131F6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834-1342-4B17-9F52-ECD750B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AF97-4A42-466F-939C-02A80D274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5E6D-31CE-4B54-98BD-BF69B550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B96D-C399-407F-BCA3-C1B722AA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F83F-ADA6-4EA9-865A-DE16DFF3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FF6-9720-4296-8207-0006FB1E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D105-2E5C-4BED-B056-0BF6BD8A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41B-BCF4-430D-80A9-44BCF1C7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EB22-E7AD-4843-B34A-E8290B43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CA66-1F48-4E5F-A93E-3F03157B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F78-0EA1-4F7A-825F-63F95CC1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ACC4-CA2A-4BDA-AD5A-55A266BA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B25-A150-48B5-B99E-1A156E2C70B1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EE2C-17EC-49B3-B56D-82EC6EFF3C46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Facebook for 2</a:t>
            </a:r>
            <a:r>
              <a:rPr b="0" lang="en-US" sz="4800" spc="-1" strike="noStrike" baseline="30000">
                <a:solidFill>
                  <a:srgbClr val="330033"/>
                </a:solidFill>
                <a:latin typeface="Times New Roman"/>
              </a:rPr>
              <a:t>nd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language learn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Τι είνα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ικτυακή – ψηφιακή κοιν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όχος: εκμάθηση άλλων γλωσσών εκτός της μητρικ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σο η επικοινωνί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μπληρωματικότητ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 υποστήριξη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εν υπάρχει επίσημος φορέ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learning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Πλεονεκτήματ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υθεντικές επικοινωνιακές καταστάσει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κληση (εξαρτάται από το επίπεδ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ελευθερώνεται ο «δειλός» μαθητή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νισχύεται η επικοινωνιακή ικανότητ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τάλληλο αν ο στόχος είναι να χρησιμοποιεί κανείς τη γλώσσα για να επικοινωνήσει απλώ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Μειονεκτήματ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ξιοπιστ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άνονται τα παραγλωσσικά και τα εξωγλωσσικά στοιχεία που διευκολύνουν την επικοινωνία (μπορεί εμπόδιο αλλά μπορεί και κίνητρ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Ρόλος του εργαλείου στη μάθηση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330033"/>
                </a:solidFill>
                <a:latin typeface="Times New Roman"/>
              </a:rPr>
              <a:t>Πώς μπορεί να αξιοποιηθεί στην εκπαιδευτική διαδικασία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μπληρωματικά (Παράλληλα) σε σχέση με την επίσημη διδασκαλ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ηγή για επίλυση προβλημάτων κατά τη διδασκαλί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οστηρικτικό υλικό και για τον εκπαιδευτή και για τον εκπαιδευόμεν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3:26:11Z</dcterms:created>
  <dc:creator>Nastasia</dc:creator>
  <dc:description/>
  <dc:language>en-US</dc:language>
  <cp:lastModifiedBy>Nastasia</cp:lastModifiedBy>
  <dcterms:modified xsi:type="dcterms:W3CDTF">2010-02-23T14:49:32Z</dcterms:modified>
  <cp:revision>2</cp:revision>
  <dc:subject/>
  <dc:title>Διαφάνεια 1</dc:title>
</cp:coreProperties>
</file>